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080-C8AF-4179-B23B-887E9219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A4F-B043-4A9E-87CD-23D0EF9B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CAF-B39A-487E-884B-26F5C914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C0D-C965-44D3-A768-BFFD65BD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87B-DBBE-46A9-A9A6-71F2B0B3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536-F31D-467B-84FE-E8ED39FA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8AA-2B66-4087-8E56-9F5A934A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E63-618C-4F3C-84CD-DA138048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DC9-F03F-47D0-A725-99840D1B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BF4-4E12-47A9-82F5-048AF435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613-AC83-4219-BC22-FAC5A4CE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E8C-2ADB-4922-9546-3B3C9647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66B0-980F-4B09-81B2-3F92B6E4C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earofphysics.com/Xva/xva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Class/1DKin/U1L1c.html" TargetMode="External"/><Relationship Id="rId2" Type="http://schemas.openxmlformats.org/officeDocument/2006/relationships/hyperlink" Target="http://www.physics.gatech.edu/academics/classes/2211/main/demos/displacement/DDis.html" TargetMode="External"/><Relationship Id="rId3" Type="http://schemas.openxmlformats.org/officeDocument/2006/relationships/hyperlink" Target="http://library.thinkquest.org/10796/ch2/ch2.htm#Sec1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 rot="20520000">
            <a:off x="1905120" y="533520"/>
            <a:ext cx="7405560" cy="287640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81080" y="0"/>
          <a:ext cx="7162920" cy="379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0"/>
                    <a:ext cx="7162920" cy="3794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00ffff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4495680" y="3429000"/>
            <a:ext cx="2422800" cy="3073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2200" cy="2060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228600" y="3962520"/>
            <a:ext cx="3965400" cy="250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266760" y="1714680"/>
            <a:ext cx="8610480" cy="2286000"/>
          </a:xfrm>
          <a:prstGeom prst="rect">
            <a:avLst/>
          </a:prstGeom>
          <a:solidFill>
            <a:srgbClr val="33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95640" y="1874880"/>
            <a:ext cx="84862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sitive sig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dicates that the veloc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reas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 It will also be an </a:t>
            </a: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increas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e object is traveling in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posi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 It is a decrease in speed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6760" y="4457880"/>
            <a:ext cx="8610480" cy="2286000"/>
          </a:xfrm>
          <a:prstGeom prst="rect">
            <a:avLst/>
          </a:prstGeom>
          <a:solidFill>
            <a:srgbClr val="cc0000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53880" y="4557600"/>
            <a:ext cx="85489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negative sig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dicates that the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decreas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 It will also be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e object is traveling in the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posi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 It is an increase in speed otherwi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74760" y="76320"/>
            <a:ext cx="677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“</a:t>
            </a:r>
            <a:r>
              <a:rPr b="1" lang="en-US" sz="3200" spc="-1" strike="noStrike">
                <a:solidFill>
                  <a:srgbClr val="ff0033"/>
                </a:solidFill>
                <a:latin typeface="Arial Black"/>
              </a:rPr>
              <a:t>sign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” of the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ndicates whether the velocity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increasing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or </a:t>
            </a: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decreasing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76320" y="228600"/>
            <a:ext cx="892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is important to note that information about an objec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celeration tells us how the object’s velocity is chan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order to know what this change in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doing to the object’s speed, we m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now the direction the object is trave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a rule, if the object’s velocity and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e in the same direction (have the same sign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can say that the object’s speed is increa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velocity and acceleration are in op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rections (have opposite signs), we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at the object’s speed is decrea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hat can we say about changes in speed and/or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f the acceleration is either increasing or decrea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364560" y="-15840"/>
            <a:ext cx="2722680" cy="76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Serpentine"/>
              </a:rPr>
              <a:t>Cons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152280" y="249120"/>
          <a:ext cx="868680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9120"/>
                    <a:ext cx="8686800" cy="2036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ff66ff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6" name="Rectangle 4"/>
          <p:cNvSpPr/>
          <p:nvPr/>
        </p:nvSpPr>
        <p:spPr>
          <a:xfrm>
            <a:off x="38160" y="2171880"/>
            <a:ext cx="4114800" cy="4419360"/>
          </a:xfrm>
          <a:prstGeom prst="rect">
            <a:avLst/>
          </a:prstGeom>
          <a:solidFill>
            <a:srgbClr val="00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762120" y="2224080"/>
            <a:ext cx="2822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1" lang="en-US" sz="4800" spc="-1" strike="noStrike" baseline="-25000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 = v</a:t>
            </a:r>
            <a:r>
              <a:rPr b="1" lang="en-US" sz="4800" spc="-1" strike="noStrike" baseline="-25000">
                <a:solidFill>
                  <a:srgbClr val="33cc33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 + 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153440" y="2986200"/>
            <a:ext cx="20365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d = v</a:t>
            </a:r>
            <a:r>
              <a:rPr b="1" lang="en-US" sz="4800" spc="-1" strike="noStrike" baseline="-25000">
                <a:solidFill>
                  <a:srgbClr val="ff0033"/>
                </a:solidFill>
                <a:latin typeface="Times New Roman"/>
              </a:rPr>
              <a:t>av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79640" y="3672000"/>
            <a:ext cx="3852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4800" spc="-1" strike="noStrike" baseline="-25000">
                <a:solidFill>
                  <a:srgbClr val="3333cc"/>
                </a:solidFill>
                <a:latin typeface="Times New Roman"/>
              </a:rPr>
              <a:t>av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= (v</a:t>
            </a:r>
            <a:r>
              <a:rPr b="1" lang="en-US" sz="48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+ v</a:t>
            </a:r>
            <a:r>
              <a:rPr b="1" lang="en-US" sz="4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)/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7320" y="4586400"/>
            <a:ext cx="3879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Times New Roman"/>
              </a:rPr>
              <a:t>d = v</a:t>
            </a:r>
            <a:r>
              <a:rPr b="1" lang="en-US" sz="4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ff66ff"/>
                </a:solidFill>
                <a:latin typeface="Times New Roman"/>
              </a:rPr>
              <a:t>t + 0.5at</a:t>
            </a:r>
            <a:r>
              <a:rPr b="1" lang="en-US" sz="4800" spc="-1" strike="noStrike" baseline="30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31200" y="5500800"/>
            <a:ext cx="3615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4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= v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4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+ 2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3"/>
          <a:stretch/>
        </p:blipFill>
        <p:spPr>
          <a:xfrm>
            <a:off x="3811680" y="2438280"/>
            <a:ext cx="1979640" cy="4191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1"/>
          <p:cNvSpPr/>
          <p:nvPr/>
        </p:nvSpPr>
        <p:spPr>
          <a:xfrm>
            <a:off x="6119280" y="2332080"/>
            <a:ext cx="174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t =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5183280" y="2865600"/>
            <a:ext cx="362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 = dis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5156640" y="3475080"/>
            <a:ext cx="3763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v</a:t>
            </a:r>
            <a:r>
              <a:rPr b="1" lang="en-US" sz="3200" spc="-1" strike="noStrike" baseline="-25000">
                <a:solidFill>
                  <a:srgbClr val="00ff99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= initial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801040" y="4008600"/>
            <a:ext cx="28868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av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aver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385240" y="5075280"/>
            <a:ext cx="339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 =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5249160" y="5667480"/>
            <a:ext cx="356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v</a:t>
            </a:r>
            <a:r>
              <a:rPr b="1" lang="en-US" sz="3200" spc="-1" strike="noStrike" baseline="-25000">
                <a:solidFill>
                  <a:srgbClr val="ff99ff"/>
                </a:solidFill>
                <a:latin typeface="Comic Sans MS"/>
              </a:rPr>
              <a:t>f</a:t>
            </a: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 = final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202040" y="457200"/>
            <a:ext cx="672768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can learn more about dista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placement, speed, velocit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ative velocity, and accel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y clicking on these simulation 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link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link2, link3, link4, link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" descr="two_racers_dash_graph"/>
          <p:cNvPicPr/>
          <p:nvPr/>
        </p:nvPicPr>
        <p:blipFill>
          <a:blip r:embed="rId2"/>
          <a:stretch/>
        </p:blipFill>
        <p:spPr>
          <a:xfrm>
            <a:off x="1676520" y="3352680"/>
            <a:ext cx="6000480" cy="3181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066320" y="30492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Black"/>
              </a:rPr>
              <a:t>Position – Time Graphs Summa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1219320"/>
            <a:ext cx="87631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y-coordin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any time gives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si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lo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a position-time graph at any instant is the instantaneous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veloc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aph segments indicate that the object is “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t re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moving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upwa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mply movement in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si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moving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ownwa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mply movement in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eg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ir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raigh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ine graph segments indicat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ant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urv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aph segments indicat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hanging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becoming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eep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dicate an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crease i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becoming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less stee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dicate a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rease i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hange of dir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indicated whenever the graph i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ca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ward or down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109520" y="304920"/>
            <a:ext cx="70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Black"/>
              </a:rPr>
              <a:t>Velocity – Time Graphs Summa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8600" y="1209600"/>
            <a:ext cx="87631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y-coordin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any time gives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veloc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lo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a velocity-time graph is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cceler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aph segments indicate that the object ha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bove the x-ax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mply movement in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si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elow the x-ax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mply movement in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eg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ir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rizontal segment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n the x-ax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dicate no m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raigh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ine graph segments indicat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ant 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moving upward indicate an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crease in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moving downward indicate a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rease in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hange of dir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indicated whenever the graph crosses the x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crease in spe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indicated by graph segments moving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w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rom the x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712080" y="349200"/>
            <a:ext cx="76528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 Black"/>
              </a:rPr>
              <a:t>Acceleration – Time Graphs Summariz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209600"/>
            <a:ext cx="87631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y-coordin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any time gives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cceler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aph segments indicate that the object ha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horizontal graph segment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n the x-ax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dicates that the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ant veloc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no accele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bove the x-ax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mply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creasing velocities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elow the x-ax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mply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reasing veloc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changes in direction may be inferred from thes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t the introductory physics level, we typically only deal with constant acceleration situations, so acceleration graphs generally consist of horizontal segments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"/>
          <p:cNvSpPr/>
          <p:nvPr/>
        </p:nvSpPr>
        <p:spPr>
          <a:xfrm>
            <a:off x="482760" y="2971800"/>
            <a:ext cx="8254800" cy="3606840"/>
          </a:xfrm>
          <a:prstGeom prst="ellipse">
            <a:avLst/>
          </a:prstGeom>
          <a:solidFill>
            <a:srgbClr val="003300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914400" y="101520"/>
            <a:ext cx="7340760" cy="1041480"/>
          </a:xfrm>
          <a:prstGeom prst="rect">
            <a:avLst/>
          </a:prstGeom>
          <a:solidFill>
            <a:srgbClr val="66ff66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802080" y="46080"/>
            <a:ext cx="741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posi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any objec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respect to som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ference poi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03040" y="1346040"/>
            <a:ext cx="8864640" cy="1473480"/>
          </a:xfrm>
          <a:prstGeom prst="leftArrow">
            <a:avLst>
              <a:gd name="adj1" fmla="val 75009"/>
              <a:gd name="adj2" fmla="val 300778"/>
            </a:avLst>
          </a:prstGeom>
          <a:solidFill>
            <a:srgbClr val="66ff66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517480" y="1523880"/>
            <a:ext cx="659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object’s 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posi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it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rom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ference poi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914400" y="3352680"/>
            <a:ext cx="739152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s said to have occurred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si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f an object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espect to a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ference poi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h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d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0020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435960" y="1554120"/>
            <a:ext cx="840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placement, then, is a </a:t>
            </a:r>
            <a:r>
              <a:rPr b="1" lang="en-US" sz="3200" spc="-1" strike="noStrike">
                <a:solidFill>
                  <a:srgbClr val="99ff66"/>
                </a:solidFill>
                <a:latin typeface="Comic Sans MS"/>
              </a:rPr>
              <a:t>vecto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qua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22120" y="2666880"/>
            <a:ext cx="857304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Di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or length, is a </a:t>
            </a:r>
            <a:r>
              <a:rPr b="1" lang="en-US" sz="3200" spc="-1" strike="noStrike">
                <a:solidFill>
                  <a:srgbClr val="99ff66"/>
                </a:solidFill>
                <a:latin typeface="Comic Sans MS"/>
              </a:rPr>
              <a:t>scala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to explore differences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di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displaceme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to make calculation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to check your understa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838080" y="228600"/>
            <a:ext cx="7772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change in position of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 often called its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displaceme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3"/>
          <p:cNvSpPr/>
          <p:nvPr/>
        </p:nvSpPr>
        <p:spPr>
          <a:xfrm>
            <a:off x="380880" y="177840"/>
            <a:ext cx="8331480" cy="1701720"/>
          </a:xfrm>
          <a:prstGeom prst="hexagon">
            <a:avLst>
              <a:gd name="adj" fmla="val 122375"/>
              <a:gd name="vf" fmla="val 115470"/>
            </a:avLst>
          </a:prstGeom>
          <a:solidFill>
            <a:srgbClr val="009900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06240" y="228600"/>
            <a:ext cx="800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ne dimensional mo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placement dire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often giv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en-US" sz="3200" spc="-1" strike="noStrike">
                <a:solidFill>
                  <a:srgbClr val="ff66cc"/>
                </a:solidFill>
                <a:latin typeface="Comic Sans MS"/>
              </a:rPr>
              <a:t>posi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nega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54160" y="2235240"/>
            <a:ext cx="8635680" cy="2311200"/>
          </a:xfrm>
          <a:prstGeom prst="rect">
            <a:avLst/>
          </a:prstGeom>
          <a:solidFill>
            <a:srgbClr val="ff3300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54440" y="2408400"/>
            <a:ext cx="87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place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 m implies moveme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 m in the </a:t>
            </a:r>
            <a:r>
              <a:rPr b="1" lang="en-US" sz="3200" spc="-1" strike="noStrike">
                <a:solidFill>
                  <a:srgbClr val="ff66cc"/>
                </a:solidFill>
                <a:latin typeface="Comic Sans MS"/>
              </a:rPr>
              <a:t>posi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7"/>
          <p:cNvSpPr/>
          <p:nvPr/>
        </p:nvSpPr>
        <p:spPr>
          <a:xfrm>
            <a:off x="7543800" y="3200400"/>
            <a:ext cx="10666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49120" y="3429000"/>
            <a:ext cx="8652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place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 m implies moveme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 m in the 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nega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7543440" y="4191120"/>
            <a:ext cx="10666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228600" y="4749840"/>
            <a:ext cx="8737560" cy="2081160"/>
          </a:xfrm>
          <a:prstGeom prst="ellipse">
            <a:avLst/>
          </a:prstGeom>
          <a:solidFill>
            <a:srgbClr val="ff66ff"/>
          </a:solidFill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3520" y="5029200"/>
            <a:ext cx="8153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Posi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nega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rection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sen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rbitraril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but usually agree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mathematical conven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558720" y="3987720"/>
            <a:ext cx="8102520" cy="2843280"/>
          </a:xfrm>
          <a:prstGeom prst="rect">
            <a:avLst/>
          </a:prstGeom>
          <a:solidFill>
            <a:srgbClr val="ff0033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21400" y="122400"/>
            <a:ext cx="8649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average veloc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an object is defin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the </a:t>
            </a:r>
            <a:r>
              <a:rPr b="1" lang="en-US" sz="3200" spc="-1" strike="noStrike">
                <a:solidFill>
                  <a:srgbClr val="0099ff"/>
                </a:solidFill>
                <a:latin typeface="Comic Sans MS"/>
              </a:rPr>
              <a:t>rati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it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ange in posi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time taken to change the posi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854360" y="1625760"/>
            <a:ext cx="5511600" cy="223488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406600" y="1712880"/>
            <a:ext cx="16387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10600" spc="-1" strike="noStrike" baseline="-25000">
                <a:solidFill>
                  <a:srgbClr val="ffffff"/>
                </a:solidFill>
                <a:latin typeface="Times New Roman"/>
              </a:rPr>
              <a:t>av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54200" y="3884760"/>
            <a:ext cx="74944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a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average velocity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in units of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m/s, mph, ft/s, km/hr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, etc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022640" y="1979640"/>
            <a:ext cx="879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5054760" y="1930320"/>
            <a:ext cx="711000" cy="6350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5622480" y="1371600"/>
            <a:ext cx="863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1044360" y="4799160"/>
            <a:ext cx="71298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change in position, or displaceme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in units of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m, in, ft, km, mi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,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851040" y="5041800"/>
            <a:ext cx="279360" cy="20340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4952880" y="2743200"/>
            <a:ext cx="14479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5130720" y="2997360"/>
            <a:ext cx="711360" cy="6346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5850720" y="2398680"/>
            <a:ext cx="6332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33cc33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1120680" y="5727600"/>
            <a:ext cx="52326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change in tim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in units of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s, min, hr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,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851040" y="5969160"/>
            <a:ext cx="279360" cy="20304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266760" y="1714680"/>
            <a:ext cx="8610480" cy="2286000"/>
          </a:xfrm>
          <a:prstGeom prst="rect">
            <a:avLst/>
          </a:prstGeom>
          <a:solidFill>
            <a:srgbClr val="33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37520" y="1798560"/>
            <a:ext cx="669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sitive sig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dicates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sitive direc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66760" y="4457880"/>
            <a:ext cx="8610480" cy="2286000"/>
          </a:xfrm>
          <a:prstGeom prst="rect">
            <a:avLst/>
          </a:prstGeom>
          <a:solidFill>
            <a:srgbClr val="cc0000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6248520" y="2278080"/>
            <a:ext cx="2590560" cy="1668600"/>
          </a:xfrm>
          <a:prstGeom prst="rect">
            <a:avLst/>
          </a:prstGeom>
          <a:ln w="0">
            <a:noFill/>
          </a:ln>
        </p:spPr>
      </p:pic>
      <p:sp>
        <p:nvSpPr>
          <p:cNvPr id="84" name="Line 7"/>
          <p:cNvSpPr/>
          <p:nvPr/>
        </p:nvSpPr>
        <p:spPr>
          <a:xfrm>
            <a:off x="533520" y="3200400"/>
            <a:ext cx="6629400" cy="0"/>
          </a:xfrm>
          <a:prstGeom prst="line">
            <a:avLst/>
          </a:prstGeom>
          <a:ln w="76320">
            <a:solidFill>
              <a:srgbClr val="ff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194840" y="4481640"/>
            <a:ext cx="703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negative sig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dicates mov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the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negative direc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2"/>
          <a:stretch/>
        </p:blipFill>
        <p:spPr>
          <a:xfrm>
            <a:off x="333360" y="5257800"/>
            <a:ext cx="2301840" cy="1255680"/>
          </a:xfrm>
          <a:prstGeom prst="rect">
            <a:avLst/>
          </a:prstGeom>
          <a:ln w="0">
            <a:noFill/>
          </a:ln>
        </p:spPr>
      </p:pic>
      <p:sp>
        <p:nvSpPr>
          <p:cNvPr id="87" name="Line 10"/>
          <p:cNvSpPr/>
          <p:nvPr/>
        </p:nvSpPr>
        <p:spPr>
          <a:xfrm flipH="1">
            <a:off x="2284560" y="5867280"/>
            <a:ext cx="6325920" cy="0"/>
          </a:xfrm>
          <a:prstGeom prst="line">
            <a:avLst/>
          </a:prstGeom>
          <a:ln w="76320">
            <a:solidFill>
              <a:srgbClr val="99ff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020600" y="304920"/>
            <a:ext cx="718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“</a:t>
            </a:r>
            <a:r>
              <a:rPr b="1" lang="en-US" sz="3200" spc="-1" strike="noStrike">
                <a:solidFill>
                  <a:srgbClr val="ff0033"/>
                </a:solidFill>
                <a:latin typeface="Arial Black"/>
              </a:rPr>
              <a:t>sign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” of the velocity in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direction of move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3"/>
          <p:cNvSpPr/>
          <p:nvPr/>
        </p:nvSpPr>
        <p:spPr>
          <a:xfrm>
            <a:off x="1371600" y="152280"/>
            <a:ext cx="6629400" cy="1016280"/>
          </a:xfrm>
          <a:prstGeom prst="ellipse">
            <a:avLst/>
          </a:prstGeom>
          <a:solidFill>
            <a:srgbClr val="3333cc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573920" y="334800"/>
            <a:ext cx="629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s the </a:t>
            </a: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magnitude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of velo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77720" y="1157400"/>
            <a:ext cx="846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cal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has no direction given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0120" y="1778040"/>
            <a:ext cx="8483760" cy="1015920"/>
          </a:xfrm>
          <a:prstGeom prst="rect">
            <a:avLst/>
          </a:prstGeom>
          <a:solidFill>
            <a:srgbClr val="00cc99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13840" y="1752480"/>
            <a:ext cx="872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Average sp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otal dist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rave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divided b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otal ti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304920" y="3429000"/>
            <a:ext cx="8483400" cy="1015920"/>
          </a:xfrm>
          <a:prstGeom prst="rect">
            <a:avLst/>
          </a:prstGeom>
          <a:solidFill>
            <a:srgbClr val="00cc99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216000" y="3352680"/>
            <a:ext cx="870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Average veloc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otal displace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divided b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otal ti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95080" y="4724280"/>
            <a:ext cx="797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verage speed and average velocit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enerally not equivalent because tot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d total displacement are generally not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en would they have the same magnitu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4"/>
          <p:cNvSpPr/>
          <p:nvPr/>
        </p:nvSpPr>
        <p:spPr>
          <a:xfrm flipH="1" flipV="1" rot="10800000">
            <a:off x="152280" y="608400"/>
            <a:ext cx="8839440" cy="1295640"/>
          </a:xfrm>
          <a:prstGeom prst="pie">
            <a:avLst/>
          </a:prstGeom>
          <a:solidFill>
            <a:srgbClr val="ffff00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56520" y="685800"/>
            <a:ext cx="730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ed is the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absolute val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velo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osi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2590920"/>
            <a:ext cx="9144000" cy="2361960"/>
          </a:xfrm>
          <a:prstGeom prst="rect">
            <a:avLst/>
          </a:prstGeom>
          <a:solidFill>
            <a:srgbClr val="ff0033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21840" y="2590920"/>
            <a:ext cx="8688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n object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s speed while travel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33cc33"/>
                </a:solidFill>
                <a:latin typeface="Comic Sans MS"/>
              </a:rPr>
              <a:t>negative direc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ts velocity actually </a:t>
            </a:r>
            <a:r>
              <a:rPr b="0" i="1" lang="en-US" sz="2800" spc="-1" strike="noStrike">
                <a:solidFill>
                  <a:srgbClr val="00ffff"/>
                </a:solidFill>
                <a:latin typeface="Comic Sans MS"/>
              </a:rPr>
              <a:t>decreas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16000" y="3809880"/>
            <a:ext cx="8603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n object </a:t>
            </a:r>
            <a:r>
              <a:rPr b="0" i="1" lang="en-US" sz="2800" spc="-1" strike="noStrike">
                <a:solidFill>
                  <a:srgbClr val="00ffff"/>
                </a:solidFill>
                <a:latin typeface="Comic Sans MS"/>
              </a:rPr>
              <a:t>decreas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s speed while travel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33cc33"/>
                </a:solidFill>
                <a:latin typeface="Comic Sans MS"/>
              </a:rPr>
              <a:t>negative direc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ts velocity actually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7840" y="3987720"/>
            <a:ext cx="8788320" cy="2843280"/>
          </a:xfrm>
          <a:prstGeom prst="rect">
            <a:avLst/>
          </a:prstGeom>
          <a:solidFill>
            <a:srgbClr val="ff0033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040" y="46080"/>
            <a:ext cx="92372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average accele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an object is defi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the </a:t>
            </a:r>
            <a:r>
              <a:rPr b="1" lang="en-US" sz="3200" spc="-1" strike="noStrike">
                <a:solidFill>
                  <a:srgbClr val="0099ff"/>
                </a:solidFill>
                <a:latin typeface="Comic Sans MS"/>
              </a:rPr>
              <a:t>rati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it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ange in veloc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time taken to change the veloc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854360" y="1625760"/>
            <a:ext cx="5511600" cy="223488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406600" y="1712880"/>
            <a:ext cx="16387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10600" spc="-1" strike="noStrike" baseline="-25000">
                <a:solidFill>
                  <a:srgbClr val="ffffff"/>
                </a:solidFill>
                <a:latin typeface="Times New Roman"/>
              </a:rPr>
              <a:t>av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74400" y="3884760"/>
            <a:ext cx="85795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a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average acceleration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in units of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m/s/s, mph/s, ft/s/s, km/hr/s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, etc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022640" y="1979640"/>
            <a:ext cx="879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5054760" y="1930320"/>
            <a:ext cx="711000" cy="6350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5775120" y="1446120"/>
            <a:ext cx="794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85800" y="4799160"/>
            <a:ext cx="80694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change in velocit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in units of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m/s, in/s, ft/s, km/hr, mph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,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546120" y="5041800"/>
            <a:ext cx="279360" cy="20340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4952880" y="2743200"/>
            <a:ext cx="14479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5130720" y="2997360"/>
            <a:ext cx="711360" cy="6346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5850720" y="2398680"/>
            <a:ext cx="6332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33cc33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739800" y="5651640"/>
            <a:ext cx="52326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change in tim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in units of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s, min, hr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,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469800" y="5880240"/>
            <a:ext cx="279360" cy="20304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jluckey</cp:lastModifiedBy>
  <cp:lastPrinted>1998-08-04T03:35:54Z</cp:lastPrinted>
  <dcterms:modified xsi:type="dcterms:W3CDTF">2011-01-23T19:45:22Z</dcterms:modified>
  <cp:revision>53</cp:revision>
  <dc:subject/>
  <dc:title>No Slide Title</dc:title>
</cp:coreProperties>
</file>